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41A-3F0B-496E-AABD-1922E014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D4E-23DA-49A8-8D5E-A5D64DB4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0E0-D3F5-471F-862A-27E2133D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48E-EE27-46E7-8450-638CCB22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3D6-5C74-4616-B36D-45B1B3F1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F58-FDEA-4955-945E-D3281403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F6D-9D33-41D5-A95B-5002D77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16B-7109-48C9-A202-4526CD1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2F0-FE20-420F-92F9-A9D2D99D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714-3603-4E33-A80A-62376ED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4D6-B54F-481C-9D1B-B5AACF6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78B-6B7F-479E-9C71-1D939953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807F-9E1C-4B60-BA93-69BF8324E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director of an artists collective. We house writers, painters, artists, dancers, musicians, and any other kind of artist you can imagine. We give them a place to live and a studio/office of their 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applying for an open spot in the collective. In no more than one paragraph, you must introduce yourself and explain why you deserve a spot in the collec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osen, you will come in for a more formal interview to fully explain yourself and give examples of your w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(pt.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to read their paragraph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, decide whether or not you would give the author an interview based on this introductory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: when you listened to another’s paragraph, what elements were you listening for? What makes a good paragraph?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ease write for collec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: when you wrote your paragraph, what were you trying to do? How were you hoping to appeal to the audience?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ease write for col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: what do you notice when you compare your answers from numbers 2 and 3?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ease write for col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’s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topic will this paper foc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what so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I need to know about 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ow why this topic worth exp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is topic makes it worth writing ab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it will be explor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se aspects will probably be revisited in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ate an arguable, defendable position regarding the topic: a thesis stat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you going to prove/argue regarding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I learn as a result of this pap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expect as I keep read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TRO IS AS LONG AS IT NEEDS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0" y="1676520"/>
            <a:ext cx="2286000" cy="4100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</a:rPr>
              <a:t>Big ‘ol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</a:rPr>
              <a:t>Length: 2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</a:rPr>
              <a:t>Diameter: 6ft – 10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</a:rPr>
              <a:t>Ave. Temp: 64</a:t>
            </a:r>
            <a:r>
              <a:rPr b="1" lang="en-US" sz="1800" spc="-1" strike="noStrike">
                <a:solidFill>
                  <a:srgbClr val="000000"/>
                </a:solidFill>
                <a:latin typeface="Oxford"/>
                <a:ea typeface="Arial"/>
              </a:rPr>
              <a:t>°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  <a:ea typeface="Arial"/>
              </a:rPr>
              <a:t>Wildlife: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  <a:ea typeface="Arial"/>
              </a:rPr>
              <a:t>- Tunnel will transport you to other side of lake and change the way you understand lif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3:06:12Z</dcterms:created>
  <dc:creator>Administrator</dc:creator>
  <dc:description/>
  <dc:language>en-US</dc:language>
  <cp:lastModifiedBy>Administrator</cp:lastModifiedBy>
  <dcterms:modified xsi:type="dcterms:W3CDTF">2010-10-15T09:32:28Z</dcterms:modified>
  <cp:revision>4</cp:revision>
  <dc:subject/>
  <dc:title>Slide 1</dc:title>
</cp:coreProperties>
</file>